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BA8-34F7-42EB-BE71-79E00ED1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FA0-0E12-4EDA-8D0B-338E26FC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82B-0A9E-4214-9040-944661F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972-3D53-47ED-9A10-C71F6B9B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4BA-1403-484A-AAD4-596817F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9B9-CA7C-4D2F-AB49-88B1B954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196-54F0-42A6-8B25-91A4A5A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768-9CB6-44AD-BF0B-7D598CC6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DF0-48E3-4359-AD87-E686D076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E5C-6378-43DF-AA7E-42A76E9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C06-2B8E-4CA2-85FC-14D17F5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40A-9FD5-4618-AD1D-3626700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DF9A-2147-4432-BDA8-1CC929B27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Краснодарский краевой институт дополнительного профессионального педагог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О методических особенностях подготовки выпуск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IX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XI (XII)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классов общеобразовательных учреждений к государственной (итоговой) аттестации 201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057400"/>
            <a:ext cx="73152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876920"/>
            <a:ext cx="73915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1814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Семенко Екатерина Алексеевна,</a:t>
            </a:r>
            <a:r>
              <a:rPr b="1" lang="ru-RU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ктор ККИДП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(861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-08-6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menkoe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Изменения в КИМах ГИА-2010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по русскому языку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Часть 2 – сокращено количество заданий части А с 7 до 6. Отсутствует задание типа «Выберите верное продолжение ответа на вопрос….Такая форма слова говорит о …». Это задание контролировало уровень владения учащимися морально-этическими норм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- Часть 3 – расширена тематика задания С2.1 с развернутым ответом: в рамках написания лингвистического сочинения ученику на выбор предлагается 2 темы: «Зачем нужна орфография?» или «Зачем нужна пунктуация?» (В прошлом году было только одна тем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- Уточнены критерии оценивания выполнения задания С1 с развернутым отве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- Изменено максимальное количество баллов за выполнение работы в целом – 44 балла (в прошлом году было 45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- В спецификации более детально прописана преемственность между КИМ  ЕГЭ и ГИ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- Кодификатор дополнен уточняющей информацией: «Специфические требования для ОУ с </a:t>
            </a:r>
            <a:r>
              <a:rPr b="1" i="1" lang="en-US" sz="2100" spc="-1" strike="noStrike">
                <a:solidFill>
                  <a:srgbClr val="0000ff"/>
                </a:solidFill>
                <a:latin typeface="Tahoma"/>
              </a:rPr>
              <a:t>родным (нерусским) языком</a:t>
            </a: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 обучения, </a:t>
            </a:r>
            <a:r>
              <a:rPr b="1" i="1" lang="en-US" sz="2100" spc="-1" strike="noStrike" u="sng">
                <a:solidFill>
                  <a:srgbClr val="0000ff"/>
                </a:solidFill>
                <a:uFillTx/>
                <a:latin typeface="Tahoma"/>
              </a:rPr>
              <a:t>не проверяемые</a:t>
            </a:r>
            <a:r>
              <a:rPr b="1" lang="en-US" sz="2100" spc="-1" strike="noStrike">
                <a:solidFill>
                  <a:srgbClr val="0000ff"/>
                </a:solidFill>
                <a:latin typeface="Tahoma"/>
              </a:rPr>
              <a:t> экзаменационной работой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по русскому языку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в среднем по кра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057400"/>
          <a:ext cx="8229240" cy="406836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7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,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4,0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2,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4,9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5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Изменения в КИМах ЕГЭ-2010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о обществ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) Сокращено число заданий части А – с 30 до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) На позиции В1 вводится задание по выполнению пропущенного элемента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) Введено новое задание  С8 -  составление плана развернутого ответа по определе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4) Мини-сочинение – С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5) Задание С9 оценивается до 5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6) Максимальный первичный балл – 59-6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зменения в КИМах ЕГЭ-2010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по истории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Сокращается с 32 до 27 число заданий базового уровня сложности за счет исключения заданий на группировку (А7, А16, А22, А30 в КИМ 2009 г.), на знание дат по разделу XVII – XVIII вв. (А5 в КИМ 2009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Задание А1 на знание дат в КИМ 2009 г. относилось к разделу курса VIII – начала XVII вв. В КИМ 2010 г. оно представлено на разделы VIII – начала XVII вв., XVII – XVIII в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Задание А 26 на умение извлекать информацию из источника (А31 в КИМ 2009 г.) представлено по периоду 1945 – 2009 гг. (в КИМ 2009 г. – по периоду 1945 – 1991 г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Задание А27 по периоду 1992 – 2009 гг. может проверять разные виды базовых знаний и умений (знание дат, фактов, понятий, причин и следствий, соотнесение фактов и единичных явлений), что позволит расширить комплекс знаний по истории современной России, проверяемых в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Увеличивается до 15 число заданий повышенного уровня сложности путем распространения существующих типов заданий части 2 (В) на все периоды истории России. В КИМ ЕГЭ 2010 г. по каждому разделу курса представлены задания на группировку, на систематизацию фактов, понятий, на поиск информации в источнике. Задания на установление последовательности представлены в каждом варианте по периодам VIII – XVIII и XIX вв. Еще одно задание на установление последовательности представлено по обобщенному периоду XX в. (В1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зменения в КИМах ЕГЭ-2010 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по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Общее число заданий сокращается с 50 до 49. Максимальный первичный балл (61) не из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В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части  количество заданий сокращается до 2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Во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II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части увеличивается до 14. Включены задания, проверяющие знание основных этапов геологической истории Земли и умение находить и анализировать информацию необходимую для изучения географических объектов и явлений по теме: «Численность и естественное движение Росс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В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III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части не проверяются умение с помощью топографического плана местности выбирать участок, наиболее подходящий для использования в тех или иных целях. Включено задание, проверяющее умение находить и анализировать информацию, представленную в форме статистических таблиц по теме: «Направление и типы миграц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в 10 классах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в среднем по краю, в процен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905120"/>
          <a:ext cx="8534520" cy="4373280"/>
        </p:xfrm>
        <a:graphic>
          <a:graphicData uri="http://schemas.openxmlformats.org/drawingml/2006/table">
            <a:tbl>
              <a:tblPr/>
              <a:tblGrid>
                <a:gridCol w="2871720"/>
                <a:gridCol w="1432080"/>
                <a:gridCol w="1587240"/>
                <a:gridCol w="1359000"/>
                <a:gridCol w="12844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едм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13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39,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35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10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История Ро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в 11 классах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в среднем по краю, в процен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2057400"/>
          <a:ext cx="8915400" cy="3900600"/>
        </p:xfrm>
        <a:graphic>
          <a:graphicData uri="http://schemas.openxmlformats.org/drawingml/2006/table">
            <a:tbl>
              <a:tblPr/>
              <a:tblGrid>
                <a:gridCol w="2057400"/>
                <a:gridCol w="1524240"/>
                <a:gridCol w="1295280"/>
                <a:gridCol w="1447920"/>
                <a:gridCol w="1295280"/>
                <a:gridCol w="1295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едм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исавш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Об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2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  <a:ea typeface="Times New Roman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Анализ результатов краевой диагностической работы по математике для учащихся 5-х классов ОУ Краснодарского края, 20.10.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иагностическую работу писали 41162 учащихся, что составляет 92,6℅ от всех пятиклассников края. В таблице представлены проценты полученных оценок по итогам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бота состояла из 8 заданий, четыре из которых с выбором ответа, три с кратким ответом - задание базового уровня сложности и одно задание повышенного уровня сложности, его решение необходимо было подробно записать. Работа проверяла уровень остаточных знаний по математ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нализируя выполнение каждого задания, видно, что тема «Сложение и вычитание натуральных чисел» учащимися усвоена на достаточно высоком уровне - верно выполнили эти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я ( №1, №2)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95,5% и 96% учащихся соответств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днако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е №3,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в котором необходимо было применить законы арифметических действий при вычислениях с натуральными числами, верно выполнили только 53,5%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пример, вычислите                                        .  Это самый низкий процент выполнения из всех заданий диагностической работы, включая и задание №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е №4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роверяло умение сравнивать натуральные числа. Например, выберите цифру, которую  нужно вписать вместо *, чтобы  неравенство  1736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  17*6 было верным. С этим заданием справились 85,8% учащихся, что говорит о достаточно высоком уровне знаний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ем №5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роверяло умение переводить одни единицы измерения в другие (выразите 1600 см  в метрах), справились в среднем 70,7% учащихся. Это показывает, что более трети пятиклассников усвоили единицы метрическ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е №6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редставляло собой линейное уравнение типа-                      Умение решать данные уравнения показали 83,2% писавши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нием №7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роверяло умение находить площадь и периметр квадрата и прямоугольника, справились 61,7% учащихся (вычислите площадь  прямоугольника со сторонами 12 см и 40 см). Это невысокий показатель  и является свидетельством слабой практической подготовки учащихся.Разброс по муниципалитетам края от 53%  до 68,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екстовую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задачу (№8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верно решили 54,8%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Tahoma"/>
              </a:rPr>
              <a:t>Рекомендации учителям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обратить внимание на отработку вычислительных навыков учащихся, усилить устную работу на уроках, показывать применение законов арифметических действий при работе как с натуральными числами, так и с дробными, а также усилить практическую направленность обучения, включая соответствующие задания. Выделить «проблемные» темы в каждом конкретном классе и работать над ликвидацией пробелов в знаниях и умениях учащихся по этим темам. Включить в тематические контрольные работы задания в тестов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90920" y="2743200"/>
          <a:ext cx="124776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12477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86400" y="4038480"/>
          <a:ext cx="828720" cy="2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038480"/>
                    <a:ext cx="82872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Территории, которые не вовремя предоставляют данные по диагностическим рабо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676520"/>
          <a:ext cx="9144000" cy="5095800"/>
        </p:xfrm>
        <a:graphic>
          <a:graphicData uri="http://schemas.openxmlformats.org/drawingml/2006/table">
            <a:tbl>
              <a:tblPr/>
              <a:tblGrid>
                <a:gridCol w="2611440"/>
                <a:gridCol w="1076400"/>
                <a:gridCol w="1460520"/>
                <a:gridCol w="3995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едм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Класс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Дата</a:t>
                      </a: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Русский язык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.10.09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селки - нет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.1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имашевский - нет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Английский язык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.10.09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вказский, Тимашевский - нет данных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елки, Гулькевичи, Тихорецкий - нет Ф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Немецкий язык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.1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бинский, Новокубанск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имашевский - нет данных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елковский, Гулькевич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хорецкий - нет Ф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Физ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.1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раснодар - 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28600" y="1066680"/>
          <a:ext cx="8915400" cy="5510160"/>
        </p:xfrm>
        <a:graphic>
          <a:graphicData uri="http://schemas.openxmlformats.org/drawingml/2006/table">
            <a:tbl>
              <a:tblPr/>
              <a:tblGrid>
                <a:gridCol w="2548080"/>
                <a:gridCol w="1047600"/>
                <a:gridCol w="1424160"/>
                <a:gridCol w="3895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едме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ласс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Дата</a:t>
                      </a:r>
                      <a:r>
                        <a:rPr b="0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en-US" sz="22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11.0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уапсинский - нет данных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рия Росс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11.0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евской, Апшеронский - нет Ф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тератур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11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селки - нет данных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лгебра и нач.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11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орячий ключ, Новороссийск, Кавказский, Славянский - 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11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орячий ключ, Новороссийск, Кавказский, Приморско-Ахтарский, Славянский - нет данных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11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11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Изменения в КИМах ЕГЭ-2010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п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Нет части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Сокращено число заданий с 26 до 18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Добавлены задания на базовые математические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2 задач с кратким ответом («школьных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6 задач с полным решением («вузовских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римерный порог «тройки» 5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роверка всех ТРЕБОВАНИЙ стандарта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752480"/>
            <a:ext cx="873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72428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Семенко Екатерина Алексеевна,</a:t>
            </a:r>
            <a:r>
              <a:rPr b="1" lang="ru-RU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ктор ККИДП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(861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-08-6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menkoe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Примеры компетентностных заданий из Демонстрационного варианта -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8991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Примеры компетентностных заданий из Демонстрационного варианта -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Примеры компетентностных заданий из Демонстрационного варианта -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899172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по математике в 11 (12) классах (в среднем по кра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3429000"/>
          <a:ext cx="8229600" cy="2663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3,6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3,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9,1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3,3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1,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2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Изменения в КИМах ГИА-2010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п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 первой части уменьшилось количество заданий с выбором  ответа с 10 до 8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 первой части увеличилось количество заданий с кратким ответом с 5 до 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Обе части будут содержать алгебраические задания с геометрическим кон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по алгебре в 9  класса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(в среднем по кра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2209680"/>
          <a:ext cx="8686800" cy="3124440"/>
        </p:xfrm>
        <a:graphic>
          <a:graphicData uri="http://schemas.openxmlformats.org/drawingml/2006/table">
            <a:tbl>
              <a:tblPr/>
              <a:tblGrid>
                <a:gridCol w="1738440"/>
                <a:gridCol w="1738080"/>
                <a:gridCol w="1733760"/>
                <a:gridCol w="1738080"/>
                <a:gridCol w="173844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47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28,2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15,0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8,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8,6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1,6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6,0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3,8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Результаты диагностических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работ по математике (алгебре)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в среднем по кра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828800"/>
          <a:ext cx="8610840" cy="46544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1160"/>
                <a:gridCol w="1722240"/>
                <a:gridCol w="17226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5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6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3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4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1,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6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2,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9,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6,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6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3,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3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2,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9,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1,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,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17,0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54,0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1,8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7,2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ПО ИАЦ</cp:lastModifiedBy>
  <dcterms:modified xsi:type="dcterms:W3CDTF">2009-11-30T07:49:40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