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9DA6-DA00-4013-81E3-5BB95CF77D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A6A9-FAB6-47A8-B5C5-6A8BA282B6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557F-D2E1-4B15-850B-3ED888E4A8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EF81-65C1-498A-81E4-20E643C6FF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6A99-0978-4DC8-8DE3-A602702CC5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7055-B575-42AA-BD50-C0CBA46FEF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2F6-1AE2-45B7-8D7E-22ED42E9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0BE-A0CB-40F9-9C24-B56055ED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D11-BC1D-45E3-98DE-74609069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049-6DCD-4103-BAAA-B3D100C4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6C9-DE29-4F69-8845-0B303814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1CD-176E-4240-8511-7C7AB507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C93-BB19-41A1-806D-B3A251EB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056-27E1-4DC9-BF92-D73F40B6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D43-1B09-4FD3-B87F-CFEF9881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9B5-1A69-452D-8E15-46DBFF87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855-5FDF-4364-9533-76725C2F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CB4-7D9F-4A96-B6C2-A82AAD32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D34A-29B6-4BCC-A553-81097C0AC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Край_чистый_"/>
          <p:cNvPicPr/>
          <p:nvPr/>
        </p:nvPicPr>
        <p:blipFill>
          <a:blip r:embed="rId1"/>
          <a:stretch/>
        </p:blipFill>
        <p:spPr>
          <a:xfrm>
            <a:off x="900000" y="635040"/>
            <a:ext cx="6804000" cy="62229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7"/>
          <p:cNvSpPr/>
          <p:nvPr/>
        </p:nvSpPr>
        <p:spPr>
          <a:xfrm>
            <a:off x="3132000" y="4437000"/>
            <a:ext cx="1835280" cy="169092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5076720" y="1052640"/>
            <a:ext cx="2305080" cy="1908000"/>
          </a:xfrm>
          <a:prstGeom prst="octagon">
            <a:avLst>
              <a:gd name="adj" fmla="val 29287"/>
            </a:avLst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684360" y="1952640"/>
            <a:ext cx="2124000" cy="190800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5148360" y="3608280"/>
            <a:ext cx="2016000" cy="1835280"/>
          </a:xfrm>
          <a:prstGeom prst="octagon">
            <a:avLst>
              <a:gd name="adj" fmla="val 29287"/>
            </a:avLst>
          </a:prstGeom>
          <a:blipFill rotWithShape="0">
            <a:blip r:embed="rId5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2808360" y="2060640"/>
            <a:ext cx="2592360" cy="2230200"/>
          </a:xfrm>
          <a:prstGeom prst="octagon">
            <a:avLst>
              <a:gd name="adj" fmla="val 29287"/>
            </a:avLst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Герб_Кубани_новыйpng"/>
          <p:cNvPicPr/>
          <p:nvPr/>
        </p:nvPicPr>
        <p:blipFill>
          <a:blip r:embed="rId7"/>
          <a:stretch/>
        </p:blipFill>
        <p:spPr>
          <a:xfrm>
            <a:off x="0" y="0"/>
            <a:ext cx="533520" cy="657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3"/>
          <p:cNvSpPr/>
          <p:nvPr/>
        </p:nvSpPr>
        <p:spPr>
          <a:xfrm>
            <a:off x="1979640" y="3824280"/>
            <a:ext cx="1152360" cy="108108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5950080"/>
            <a:ext cx="9144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0 ноября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/>
          <p:cNvSpPr/>
          <p:nvPr/>
        </p:nvSpPr>
        <p:spPr>
          <a:xfrm>
            <a:off x="826920" y="1274760"/>
            <a:ext cx="7596360" cy="3833640"/>
          </a:xfrm>
          <a:prstGeom prst="roundRect">
            <a:avLst>
              <a:gd name="adj" fmla="val 16667"/>
            </a:avLst>
          </a:prstGeom>
          <a:solidFill>
            <a:srgbClr val="bbe0e3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 типичных нарушениях в организации учебного процесса, проведении государственной (итоговой) аттестации, включая ЕГЭ, в общеобразовательных учрежд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результатам проверок  экзаменов в форме 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79640" y="836640"/>
            <a:ext cx="74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лено 40 предписаний, обязательных для исполнения муниципальными органами управления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6000" y="1844640"/>
          <a:ext cx="2735280" cy="4716360"/>
        </p:xfrm>
        <a:graphic>
          <a:graphicData uri="http://schemas.openxmlformats.org/drawingml/2006/table">
            <a:tbl>
              <a:tblPr/>
              <a:tblGrid>
                <a:gridCol w="488880"/>
                <a:gridCol w="2246400"/>
              </a:tblGrid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Ан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Армав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Гелендж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Горячий Клю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Новороссий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пшеро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Белогл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Белореч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Брюхов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ыселк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улькевич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203640" y="1844640"/>
          <a:ext cx="2484360" cy="4716360"/>
        </p:xfrm>
        <a:graphic>
          <a:graphicData uri="http://schemas.openxmlformats.org/drawingml/2006/table">
            <a:tbl>
              <a:tblPr/>
              <a:tblGrid>
                <a:gridCol w="496800"/>
                <a:gridCol w="1987560"/>
              </a:tblGrid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н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авказ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618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али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анев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ре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асноарм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ры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рым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09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урга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ущ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енинград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ост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куба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048360" y="1808280"/>
          <a:ext cx="2736720" cy="4752720"/>
        </p:xfrm>
        <a:graphic>
          <a:graphicData uri="http://schemas.openxmlformats.org/drawingml/2006/table">
            <a:tbl>
              <a:tblPr/>
              <a:tblGrid>
                <a:gridCol w="523800"/>
                <a:gridCol w="2212920"/>
              </a:tblGrid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покр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радн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ав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им.-Ахта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еве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лавя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аром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билис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емрюк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16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имаш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ихор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уапс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сп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сть-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Щерби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троль за проведением ГИА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6000" y="1844640"/>
          <a:ext cx="2735280" cy="4716360"/>
        </p:xfrm>
        <a:graphic>
          <a:graphicData uri="http://schemas.openxmlformats.org/drawingml/2006/table">
            <a:tbl>
              <a:tblPr/>
              <a:tblGrid>
                <a:gridCol w="488880"/>
                <a:gridCol w="2246400"/>
              </a:tblGrid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Ан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Армав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Гелендж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Горячий Клю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Новороссий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шеро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логл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лореч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8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рюхов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елк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лькевич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203640" y="1844640"/>
          <a:ext cx="2484360" cy="4716360"/>
        </p:xfrm>
        <a:graphic>
          <a:graphicData uri="http://schemas.openxmlformats.org/drawingml/2006/table">
            <a:tbl>
              <a:tblPr/>
              <a:tblGrid>
                <a:gridCol w="496800"/>
                <a:gridCol w="1987560"/>
              </a:tblGrid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н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вказ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18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ли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анев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ре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расноарм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ы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ым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09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рга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щ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енинград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остов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куба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048360" y="1808280"/>
          <a:ext cx="2736720" cy="4752720"/>
        </p:xfrm>
        <a:graphic>
          <a:graphicData uri="http://schemas.openxmlformats.org/drawingml/2006/table">
            <a:tbl>
              <a:tblPr/>
              <a:tblGrid>
                <a:gridCol w="523800"/>
                <a:gridCol w="2212920"/>
              </a:tblGrid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покр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дн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в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.-Ахта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ве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авя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ром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билис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мрюк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16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маш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хор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уапс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п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ть-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ерби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50"/>
          <p:cNvSpPr/>
          <p:nvPr/>
        </p:nvSpPr>
        <p:spPr>
          <a:xfrm>
            <a:off x="179280" y="72864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ритории, в которых осуществлялся контроль проведении государственной (итоговой) аттестации выпускников, осуществляемой территориальными экзаменационными комиссия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ачественное обучение организаторов в МО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232320" y="407844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-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324000" y="1052640"/>
            <a:ext cx="8569080" cy="558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едостаточная подготовленность организаторов проведения экзаменов, незнание ими нормативных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есвоевременное проведение или не проведение руководителем ОУ-ППЭ инструктажа с организато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евыполнение организаторами Процедуры проведения письменных экзаме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формальное проведение паспортного контроля выпускников на вх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есоблюдение времени окончания экзамена в аудит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впадение вариантов у рядом сидящих выпуск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тсутствие у организаторов документов, удостоверяющих л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личие в ходе экзамена  личных вещей у организаторов в аудитории, дежурных на этаж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ушения при проведении ГИА-9, организуемой ТЭ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232320" y="407844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-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84360" y="1413000"/>
            <a:ext cx="7848360" cy="46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рушения участниками экзамена требований нормативных и инструктивн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рушение схемы закрепления руководителей ОУ-ППЭ, организаторов и дежурных по эта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едостаточная информационно-разъяснительная работа в МОУО и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рки различных этапов проведения ГИ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6000" y="1844640"/>
          <a:ext cx="2735280" cy="4716360"/>
        </p:xfrm>
        <a:graphic>
          <a:graphicData uri="http://schemas.openxmlformats.org/drawingml/2006/table">
            <a:tbl>
              <a:tblPr/>
              <a:tblGrid>
                <a:gridCol w="488880"/>
                <a:gridCol w="2246400"/>
              </a:tblGrid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Ан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Армав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Гелендж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Горячий Клю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Новороссий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шеро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логл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лореч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8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Брюхов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ыселк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улькевич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03640" y="1844640"/>
          <a:ext cx="2484360" cy="4716360"/>
        </p:xfrm>
        <a:graphic>
          <a:graphicData uri="http://schemas.openxmlformats.org/drawingml/2006/table">
            <a:tbl>
              <a:tblPr/>
              <a:tblGrid>
                <a:gridCol w="496800"/>
                <a:gridCol w="1987560"/>
              </a:tblGrid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н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авказ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618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ли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нев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ре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расноарм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ры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рым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09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рга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щ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енинград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ст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куба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048360" y="1808280"/>
          <a:ext cx="2736720" cy="4752720"/>
        </p:xfrm>
        <a:graphic>
          <a:graphicData uri="http://schemas.openxmlformats.org/drawingml/2006/table">
            <a:tbl>
              <a:tblPr/>
              <a:tblGrid>
                <a:gridCol w="523800"/>
                <a:gridCol w="2212920"/>
              </a:tblGrid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овопокр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радн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ав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.-Ахта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еве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лавя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ром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билис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емрюк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16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имаш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ихор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уапс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п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сть-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Щерби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sp>
        <p:nvSpPr>
          <p:cNvPr id="119" name="Text Box 150"/>
          <p:cNvSpPr/>
          <p:nvPr/>
        </p:nvSpPr>
        <p:spPr>
          <a:xfrm>
            <a:off x="358920" y="907920"/>
            <a:ext cx="84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ритории, в которых были проверены различные этапы государственной (итоговой) аттес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ушения на этапе подготовки к проведению государственной (итоговой) аттестации выпускников IX и XI (XII)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232320" y="407844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-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341360"/>
            <a:ext cx="7525080" cy="493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лное отсутствие или отсутствие большинства нормативных документов регионального и муниципаль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едостаточное или несвоевременное информирование участников образовательного проце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тсутствие контроля за выполнением учеб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е качественное осуществление  внутришкольного  контроля за организацией учеб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тсутствие или формальная организация работы со слабоуспевающими выпуск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рка выдачи аттестатов и награждения похвальными грамотами выпуск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6000" y="1844640"/>
          <a:ext cx="2735280" cy="4716360"/>
        </p:xfrm>
        <a:graphic>
          <a:graphicData uri="http://schemas.openxmlformats.org/drawingml/2006/table">
            <a:tbl>
              <a:tblPr/>
              <a:tblGrid>
                <a:gridCol w="488880"/>
                <a:gridCol w="2246400"/>
              </a:tblGrid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Анап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Армав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Гелендж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Горячий Клю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Новороссий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бинский 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шеро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логл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лореч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8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Брюховецкий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елк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улькевичский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203640" y="1844640"/>
          <a:ext cx="2484360" cy="4716360"/>
        </p:xfrm>
        <a:graphic>
          <a:graphicData uri="http://schemas.openxmlformats.org/drawingml/2006/table">
            <a:tbl>
              <a:tblPr/>
              <a:tblGrid>
                <a:gridCol w="496800"/>
                <a:gridCol w="1987560"/>
              </a:tblGrid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н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авказский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618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ли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нев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ре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асноарм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ы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рымский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09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рга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щ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нинград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ст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куба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048360" y="1808280"/>
          <a:ext cx="2736720" cy="4752720"/>
        </p:xfrm>
        <a:graphic>
          <a:graphicData uri="http://schemas.openxmlformats.org/drawingml/2006/table">
            <a:tbl>
              <a:tblPr/>
              <a:tblGrid>
                <a:gridCol w="523800"/>
                <a:gridCol w="2212920"/>
              </a:tblGrid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покр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радненский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в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.-Ахта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еверский 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авя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ром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билисский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мрюк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16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маш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хор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уапсинский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п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сть-Лабинский 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ерби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166"/>
          <p:cNvSpPr/>
          <p:nvPr/>
        </p:nvSpPr>
        <p:spPr>
          <a:xfrm>
            <a:off x="358920" y="907920"/>
            <a:ext cx="846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ритории, в школах которых было проверено соблюдение порядка выдачи аттестатов и награждение выпускников похвальными грамотами «За особые успехи в изучении отдельных предметов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ушения при выдаче аттестатов и награждение выпускников похвальными грамот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232320" y="407844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-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755640" y="1521000"/>
            <a:ext cx="7524720" cy="435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е соответствие отметок в аттестатах, книгах выдачи аттестатов, классных журналах на предметных страницах и в сводных ведом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еобоснованная выдача аттестатов особого образца выпускникам 9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еобоснованное награждение похвальными грамотами «За особые успехи в изучении отдельных предметов» уча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тсутствие решения педагогического совета о выдаче аттестатов, награждении выпускников похвальными грамотами «За особые успехи в изучении отдельных предме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6232320" y="407844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-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154080" y="946080"/>
            <a:ext cx="8799480" cy="573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12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беспечить устранение выявленных нарушений, при необходимости принять меры к должностным лицам, допустившим нару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Ужесточить контроль за организацией государственной (итоговой) аттестации выпускников с участием ТЭК, проведения экзаменов в форме ЕГЭ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актиковать проведение диагностики руководителей ОУ, их заместителей, организаторов проведения экзаменов на предмет знания ими нормативных правовых а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беспечить качественную подготовку выпускников к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едставить план работы  МОУО по обеспечению в ОУ качественной работы со слабоуспевающими выпускниками до 1 декабря 200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выполнение участниками ЕГЭ требований нормативных и инструктивн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16000" y="1844640"/>
          <a:ext cx="2735280" cy="4716360"/>
        </p:xfrm>
        <a:graphic>
          <a:graphicData uri="http://schemas.openxmlformats.org/drawingml/2006/table">
            <a:tbl>
              <a:tblPr/>
              <a:tblGrid>
                <a:gridCol w="488880"/>
                <a:gridCol w="2246400"/>
              </a:tblGrid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Ан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Армав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Гелендж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Горячий Клю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Новороссий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шеро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логл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Белореч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рюхов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ыселк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улькевич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203640" y="1844640"/>
          <a:ext cx="2484360" cy="4716360"/>
        </p:xfrm>
        <a:graphic>
          <a:graphicData uri="http://schemas.openxmlformats.org/drawingml/2006/table">
            <a:tbl>
              <a:tblPr/>
              <a:tblGrid>
                <a:gridCol w="496800"/>
                <a:gridCol w="1987560"/>
              </a:tblGrid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н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вказ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18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ли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анев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ре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асноарм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ы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ым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09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рга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ущ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нинград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ст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куба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048360" y="1808280"/>
          <a:ext cx="2736720" cy="4752720"/>
        </p:xfrm>
        <a:graphic>
          <a:graphicData uri="http://schemas.openxmlformats.org/drawingml/2006/table">
            <a:tbl>
              <a:tblPr/>
              <a:tblGrid>
                <a:gridCol w="523800"/>
                <a:gridCol w="2212920"/>
              </a:tblGrid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покр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дн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в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.-Ахта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ве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авя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ром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билис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мрюк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16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имаш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хор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апс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п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ть-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Щерби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sp>
        <p:nvSpPr>
          <p:cNvPr id="63" name="Text Box 150"/>
          <p:cNvSpPr/>
          <p:nvPr/>
        </p:nvSpPr>
        <p:spPr>
          <a:xfrm>
            <a:off x="0" y="873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ритории, в которых управлениями образования не соблюдались сроки издания приказов  о назначении руководителей, координаторов, организаторов для проведения экзаме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ушение схемы закрепления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уководителей и орган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16000" y="1844640"/>
          <a:ext cx="2735280" cy="4716360"/>
        </p:xfrm>
        <a:graphic>
          <a:graphicData uri="http://schemas.openxmlformats.org/drawingml/2006/table">
            <a:tbl>
              <a:tblPr/>
              <a:tblGrid>
                <a:gridCol w="488880"/>
                <a:gridCol w="2246400"/>
              </a:tblGrid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Ан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Армав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Гелендж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Горячий Клю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Новороссий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шеро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логл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лореч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8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рюхов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елк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лькевич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203640" y="1844640"/>
          <a:ext cx="2484360" cy="4716360"/>
        </p:xfrm>
        <a:graphic>
          <a:graphicData uri="http://schemas.openxmlformats.org/drawingml/2006/table">
            <a:tbl>
              <a:tblPr/>
              <a:tblGrid>
                <a:gridCol w="496800"/>
                <a:gridCol w="1987560"/>
              </a:tblGrid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н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авказ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618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ли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нев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ре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асноарм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ы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ым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09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урга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щ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нинград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ст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куба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6048360" y="1808280"/>
          <a:ext cx="2736720" cy="4752720"/>
        </p:xfrm>
        <a:graphic>
          <a:graphicData uri="http://schemas.openxmlformats.org/drawingml/2006/table">
            <a:tbl>
              <a:tblPr/>
              <a:tblGrid>
                <a:gridCol w="523800"/>
                <a:gridCol w="2212920"/>
              </a:tblGrid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покр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радн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в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.-Ахта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ве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авя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ром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билис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мрюк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16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маш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хор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уапс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п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ть-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ерби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150"/>
          <p:cNvSpPr/>
          <p:nvPr/>
        </p:nvSpPr>
        <p:spPr>
          <a:xfrm>
            <a:off x="0" y="873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ритории, в которых допускалось присутствие в ППЭ в качестве организатор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аудиториях, уполномоченных школ, учителей-предметников по сдаваемому предме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достаточная информационно-разъяснительная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 в МОУО и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697760" y="2023920"/>
            <a:ext cx="5843880" cy="34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 Анапа ППЭ №1 (2 выпускника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 Сочи (1 выпускник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 Краснодар ППЭ № 741 (1 выпускница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елореченский район ППЭ № 32 (1 абитуриент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рюховецкий район ППЭ № 171 (1 выпускник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ыселковский район ППЭ № 182 (1 выпускница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традненский район ППЭ №32 (1 выпускниц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еверский район ППЭ № 381 (1 выпускница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лавянский район ППЭ №394 (1 выпускни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49480" y="1065240"/>
            <a:ext cx="41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алены с экзаме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ачественное обучение организаторов ЕГЭ или ослабление контроля за  организаторами в МО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16000" y="1844640"/>
          <a:ext cx="2735280" cy="4716360"/>
        </p:xfrm>
        <a:graphic>
          <a:graphicData uri="http://schemas.openxmlformats.org/drawingml/2006/table">
            <a:tbl>
              <a:tblPr/>
              <a:tblGrid>
                <a:gridCol w="488880"/>
                <a:gridCol w="2246400"/>
              </a:tblGrid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Ан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Армав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Гелендж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Горячий Клю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Новороссий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шеро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Белогл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Белореч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рюхов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елк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лькевич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203640" y="1844640"/>
          <a:ext cx="2484360" cy="4716360"/>
        </p:xfrm>
        <a:graphic>
          <a:graphicData uri="http://schemas.openxmlformats.org/drawingml/2006/table">
            <a:tbl>
              <a:tblPr/>
              <a:tblGrid>
                <a:gridCol w="496800"/>
                <a:gridCol w="1987560"/>
              </a:tblGrid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н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вказ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18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ли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нев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ре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асноарм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ы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рым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09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рга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щ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нинград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ст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куба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048360" y="1808280"/>
          <a:ext cx="2736720" cy="4752720"/>
        </p:xfrm>
        <a:graphic>
          <a:graphicData uri="http://schemas.openxmlformats.org/drawingml/2006/table">
            <a:tbl>
              <a:tblPr/>
              <a:tblGrid>
                <a:gridCol w="523800"/>
                <a:gridCol w="2212920"/>
              </a:tblGrid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покр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радн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в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.-Ахта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ве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авя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ром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билис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емрюк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16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маш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хор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уапс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сп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сть-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ерби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76" name="Text Box 150"/>
          <p:cNvSpPr/>
          <p:nvPr/>
        </p:nvSpPr>
        <p:spPr>
          <a:xfrm>
            <a:off x="0" y="873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ритории, в которых организаторы экзамена опоздали на инструктаж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имели при себе документов удостоверяющих ли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ачественное обучение организаторов ЕГЭ или ослабление контроля за  организаторами в МО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6000" y="1844640"/>
          <a:ext cx="2735280" cy="4716360"/>
        </p:xfrm>
        <a:graphic>
          <a:graphicData uri="http://schemas.openxmlformats.org/drawingml/2006/table">
            <a:tbl>
              <a:tblPr/>
              <a:tblGrid>
                <a:gridCol w="488880"/>
                <a:gridCol w="2246400"/>
              </a:tblGrid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Ан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Армав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Гелендж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Горячий Клю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Новороссий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шеро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логл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Белореч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рюхов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ыселк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лькевич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203640" y="1844640"/>
          <a:ext cx="2484360" cy="4716360"/>
        </p:xfrm>
        <a:graphic>
          <a:graphicData uri="http://schemas.openxmlformats.org/drawingml/2006/table">
            <a:tbl>
              <a:tblPr/>
              <a:tblGrid>
                <a:gridCol w="496800"/>
                <a:gridCol w="1987560"/>
              </a:tblGrid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н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вказ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18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ли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нев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ре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асноарм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ы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рым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09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рга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щ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нинград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ст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куба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048360" y="1808280"/>
          <a:ext cx="2736720" cy="4752720"/>
        </p:xfrm>
        <a:graphic>
          <a:graphicData uri="http://schemas.openxmlformats.org/drawingml/2006/table">
            <a:tbl>
              <a:tblPr/>
              <a:tblGrid>
                <a:gridCol w="523800"/>
                <a:gridCol w="2212920"/>
              </a:tblGrid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покр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дн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в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.-Ахта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еве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лавя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ром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билис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мрюк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16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маш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хор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апс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п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сть-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ерби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81" name="Text Box 150"/>
          <p:cNvSpPr/>
          <p:nvPr/>
        </p:nvSpPr>
        <p:spPr>
          <a:xfrm>
            <a:off x="0" y="873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ритории, в которых организаторы экзамена не пресекали общение выпускников, имели при себе на рабочих местах мобильные телефоны и личные ве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ачественное обучение организаторов ЕГЭ или ослабление контроля за  организаторами в МО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16000" y="1844640"/>
          <a:ext cx="2735280" cy="4716360"/>
        </p:xfrm>
        <a:graphic>
          <a:graphicData uri="http://schemas.openxmlformats.org/drawingml/2006/table">
            <a:tbl>
              <a:tblPr/>
              <a:tblGrid>
                <a:gridCol w="488880"/>
                <a:gridCol w="2246400"/>
              </a:tblGrid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Ан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Армав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Гелендж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Горячий Клю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Новороссий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шеро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логл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лореч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8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рюхов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ыселк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улькевич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203640" y="1844640"/>
          <a:ext cx="2484360" cy="4716360"/>
        </p:xfrm>
        <a:graphic>
          <a:graphicData uri="http://schemas.openxmlformats.org/drawingml/2006/table">
            <a:tbl>
              <a:tblPr/>
              <a:tblGrid>
                <a:gridCol w="496800"/>
                <a:gridCol w="1987560"/>
              </a:tblGrid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н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авказ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618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ли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нев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ре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асноарм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ы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ым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09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рга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щ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нинград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ст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куба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048360" y="1808280"/>
          <a:ext cx="2736720" cy="4752720"/>
        </p:xfrm>
        <a:graphic>
          <a:graphicData uri="http://schemas.openxmlformats.org/drawingml/2006/table">
            <a:tbl>
              <a:tblPr/>
              <a:tblGrid>
                <a:gridCol w="523800"/>
                <a:gridCol w="2212920"/>
              </a:tblGrid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покр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дн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ав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.-Ахта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ве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лавя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ром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билис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мрюк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16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маш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хор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апс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п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ть-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ерби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150"/>
          <p:cNvSpPr/>
          <p:nvPr/>
        </p:nvSpPr>
        <p:spPr>
          <a:xfrm>
            <a:off x="0" y="873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ритории, в которых формально проводилась идентификация выпускников (поступающих) организаторами при входе в ППЭ и  в ауди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ачественное обучение организаторов ЕГЭ или ослабление контроля за  организаторами в МО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6000" y="1844640"/>
          <a:ext cx="2735280" cy="4716360"/>
        </p:xfrm>
        <a:graphic>
          <a:graphicData uri="http://schemas.openxmlformats.org/drawingml/2006/table">
            <a:tbl>
              <a:tblPr/>
              <a:tblGrid>
                <a:gridCol w="488880"/>
                <a:gridCol w="2246400"/>
              </a:tblGrid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Ан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Армав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Гелендж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Горячий Клю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Новороссий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шеро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логл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лореч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8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рюхов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елк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лькевич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203640" y="1844640"/>
          <a:ext cx="2484360" cy="4716360"/>
        </p:xfrm>
        <a:graphic>
          <a:graphicData uri="http://schemas.openxmlformats.org/drawingml/2006/table">
            <a:tbl>
              <a:tblPr/>
              <a:tblGrid>
                <a:gridCol w="496800"/>
                <a:gridCol w="1987560"/>
              </a:tblGrid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н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вказ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18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ли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анев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ре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асноарм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ы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ым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09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рга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щ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нинград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ст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куба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048360" y="1808280"/>
          <a:ext cx="2736720" cy="4752720"/>
        </p:xfrm>
        <a:graphic>
          <a:graphicData uri="http://schemas.openxmlformats.org/drawingml/2006/table">
            <a:tbl>
              <a:tblPr/>
              <a:tblGrid>
                <a:gridCol w="523800"/>
                <a:gridCol w="2212920"/>
              </a:tblGrid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покр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дн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в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.-Ахта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ве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лавя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аром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билис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мрюк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16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маш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хор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апс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п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сть-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ерби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91" name="Text Box 151"/>
          <p:cNvSpPr/>
          <p:nvPr/>
        </p:nvSpPr>
        <p:spPr>
          <a:xfrm>
            <a:off x="0" y="873000"/>
            <a:ext cx="69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ритории, в которых не соблюдалось время окончания экзамена в аудитор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61" descr="680759"/>
          <p:cNvPicPr/>
          <p:nvPr/>
        </p:nvPicPr>
        <p:blipFill>
          <a:blip r:embed="rId1"/>
          <a:stretch/>
        </p:blipFill>
        <p:spPr>
          <a:xfrm>
            <a:off x="7416720" y="69228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ушение информационной безопасности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765000"/>
            <a:ext cx="684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ритории, в которых выявлено несоблюдение выпускниками (поступающими) информационной безопасности (наличие мобильных телефонов, шпаргалок, изъятых в ходе экзамен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16000" y="1844640"/>
          <a:ext cx="2735280" cy="4716360"/>
        </p:xfrm>
        <a:graphic>
          <a:graphicData uri="http://schemas.openxmlformats.org/drawingml/2006/table">
            <a:tbl>
              <a:tblPr/>
              <a:tblGrid>
                <a:gridCol w="488880"/>
                <a:gridCol w="2246400"/>
              </a:tblGrid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Ан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Армав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Гелендж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Горячий Клю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Новороссий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пшеро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Белогл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Белореч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8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Брюхов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ыселк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362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улькевич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203640" y="1844640"/>
          <a:ext cx="2484360" cy="4716360"/>
        </p:xfrm>
        <a:graphic>
          <a:graphicData uri="http://schemas.openxmlformats.org/drawingml/2006/table">
            <a:tbl>
              <a:tblPr/>
              <a:tblGrid>
                <a:gridCol w="496800"/>
                <a:gridCol w="1987560"/>
              </a:tblGrid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н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авказ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618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али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анев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ре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асноарм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ры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рым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096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урга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ущ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4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енинград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ост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10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куба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048360" y="1808280"/>
          <a:ext cx="2736720" cy="4752720"/>
        </p:xfrm>
        <a:graphic>
          <a:graphicData uri="http://schemas.openxmlformats.org/drawingml/2006/table">
            <a:tbl>
              <a:tblPr/>
              <a:tblGrid>
                <a:gridCol w="523800"/>
                <a:gridCol w="2212920"/>
              </a:tblGrid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опокр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радн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в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им.-Ахта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еве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лавя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аром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билис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емрюк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16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имаше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ихор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60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уапс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спе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57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сть-Лаб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1752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Щербин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pic>
        <p:nvPicPr>
          <p:cNvPr id="98" name="Picture 775" descr="171667258"/>
          <p:cNvPicPr/>
          <p:nvPr/>
        </p:nvPicPr>
        <p:blipFill>
          <a:blip r:embed="rId1"/>
          <a:stretch/>
        </p:blipFill>
        <p:spPr>
          <a:xfrm>
            <a:off x="6985080" y="728640"/>
            <a:ext cx="1800000" cy="101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2:07:49Z</dcterms:created>
  <dc:creator>конь</dc:creator>
  <dc:description/>
  <dc:language>en-US</dc:language>
  <cp:lastModifiedBy>Савельева</cp:lastModifiedBy>
  <dcterms:modified xsi:type="dcterms:W3CDTF">2009-11-30T06:37:31Z</dcterms:modified>
  <cp:revision>184</cp:revision>
  <dc:subject/>
  <dc:title>Слайд 1</dc:title>
</cp:coreProperties>
</file>