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7F0D-7283-44A7-9D7C-E228822E7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451B-ECED-4990-A8B0-D2D23989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8800" y="736560"/>
            <a:ext cx="4946400" cy="37101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69224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44F2-9D2B-40A3-86C9-E6011EB4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C927-DC55-4189-B7F1-EEA69922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0FDC-6F94-4462-B65A-EB0CCCA02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A7A-8306-4B9A-A0FA-39FFB04F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7DF0-D274-493C-9CBA-7FFE4656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EAFA-A4CF-4D1B-8D0F-9B380FE3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3DCA-A3C5-4C56-B1D9-DF4EEA40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E159-4033-45B0-AD3F-F9F053DA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1D61-EFB4-4660-BA8D-309976617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3F4-6448-424B-8460-0D2122B7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A94-DC42-4186-B82C-20C43DAB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772-56C3-4F06-B4BE-83DB3F21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EF1-CCA6-4F1E-94BE-AED7D0EA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D69-2DE3-4918-90AE-B4DD56D5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7F0-F0E8-4779-B45A-CBFC2753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A57-A3F8-4871-B40E-399DF07F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348-2C9A-40A1-BB28-CDB48B86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4EB-D4FB-4C1F-AF44-8C82230C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2BD-807A-43EA-9362-9B050B49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DF0-8908-4192-9616-956C25C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7E0-3072-4886-87F5-DBEB2EB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BCDE-BE8A-4527-86FB-7F52FB0A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468360" y="62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сударственной (итоговой) аттестации 2009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задачи на 201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Логотип Края и РФ с картой"/>
          <p:cNvPicPr/>
          <p:nvPr/>
        </p:nvPicPr>
        <p:blipFill>
          <a:blip r:embed="rId1"/>
          <a:stretch/>
        </p:blipFill>
        <p:spPr>
          <a:xfrm>
            <a:off x="2556000" y="3284640"/>
            <a:ext cx="4321080" cy="2458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987640" y="602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. Краснод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0 ноября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едметы, по которым результаты ЕГЭ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учше, чем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9"/>
          <p:cNvGraphicFramePr/>
          <p:nvPr/>
        </p:nvGraphicFramePr>
        <p:xfrm>
          <a:off x="-609480" y="1233360"/>
          <a:ext cx="10109160" cy="54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233360"/>
                    <a:ext cx="10109160" cy="54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0"/>
          <p:cNvSpPr/>
          <p:nvPr/>
        </p:nvSpPr>
        <p:spPr>
          <a:xfrm rot="16200000">
            <a:off x="-589680" y="2110320"/>
            <a:ext cx="194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дво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едметы, по которым результаты ЕГЭ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уже, чем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6"/>
          <p:cNvGraphicFramePr/>
          <p:nvPr/>
        </p:nvGraphicFramePr>
        <p:xfrm>
          <a:off x="-949320" y="1206360"/>
          <a:ext cx="1101708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49320" y="1206360"/>
                    <a:ext cx="1101708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7"/>
          <p:cNvSpPr/>
          <p:nvPr/>
        </p:nvSpPr>
        <p:spPr>
          <a:xfrm rot="16200000">
            <a:off x="-589680" y="2110320"/>
            <a:ext cx="194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дво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ГИА-9 участво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в 2005 году 39 %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выпускников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классов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в 2009 году 100% (49356 учащихс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Э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4 ТЭ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97 ОУ-ППЭ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788 наблюд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Rectangle 7"/>
          <p:cNvSpPr/>
          <p:nvPr/>
        </p:nvSpPr>
        <p:spPr>
          <a:xfrm>
            <a:off x="1547640" y="0"/>
            <a:ext cx="74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собенности организации и проведения государственной (итоговой) аттестации обучающихся, освоивших образовательные программы основного общего образования в Краснодар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49120" y="189000"/>
          <a:ext cx="8894880" cy="62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89000"/>
                    <a:ext cx="8894880" cy="62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38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Rectangle 4"/>
          <p:cNvSpPr/>
          <p:nvPr/>
        </p:nvSpPr>
        <p:spPr>
          <a:xfrm>
            <a:off x="1403280" y="0"/>
            <a:ext cx="774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Общее количество участников апробации государственной (итоговой) аттестации выпускников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X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классов в 200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125360"/>
          <a:ext cx="8136000" cy="5154840"/>
        </p:xfrm>
        <a:graphic>
          <a:graphicData uri="http://schemas.openxmlformats.org/drawingml/2006/table">
            <a:tbl>
              <a:tblPr/>
              <a:tblGrid>
                <a:gridCol w="2033640"/>
                <a:gridCol w="1206360"/>
                <a:gridCol w="2303640"/>
                <a:gridCol w="2592360"/>
              </a:tblGrid>
              <a:tr h="50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d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ичество субъектов Федерации – участников апроб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d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ичество выпускников                                              %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бщей чис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X 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лассов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раснода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Ф                      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раснода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Ф                                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лгеб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26 071                        49 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%                                 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79 667                       49 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                                  100%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7 520                         1 9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                                   3,7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2 497                         1 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                                   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 034                         2 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                                   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 968                        1 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                                   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 900                        1 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                                   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9 994                          1 2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9%                                   2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 507                         6 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4%                                   1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643280" y="1844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1125360"/>
            <a:ext cx="0" cy="532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1125360"/>
            <a:ext cx="0" cy="532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197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04360" y="1125360"/>
            <a:ext cx="0" cy="532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43280" y="155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940360" y="1483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940360" y="1125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92280"/>
            <a:ext cx="0" cy="54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997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3789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443700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68360" y="508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01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573408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547640" y="115920"/>
            <a:ext cx="75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пределение аттестационных отме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 выполнение заданий по алгебре в 9  классах в Краснодарском кра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981000"/>
          <a:ext cx="8229600" cy="5127840"/>
        </p:xfrm>
        <a:graphic>
          <a:graphicData uri="http://schemas.openxmlformats.org/drawingml/2006/table">
            <a:tbl>
              <a:tblPr/>
              <a:tblGrid>
                <a:gridCol w="1630440"/>
                <a:gridCol w="1474560"/>
                <a:gridCol w="1243080"/>
                <a:gridCol w="1319400"/>
                <a:gridCol w="1320480"/>
                <a:gridCol w="1241640"/>
              </a:tblGrid>
              <a:tr h="118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Год проведения эк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Количество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Экзаменационная отметка в % от числа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4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56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6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78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2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8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9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Rectangle 3"/>
          <p:cNvGraphicFramePr/>
          <p:nvPr/>
        </p:nvGraphicFramePr>
        <p:xfrm>
          <a:off x="0" y="1036800"/>
          <a:ext cx="9144000" cy="55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6800"/>
                    <a:ext cx="9144000" cy="55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3" descr="ФлагиРФиКр"/>
            <p:cNvPicPr/>
            <p:nvPr/>
          </p:nvPicPr>
          <p:blipFill>
            <a:blip r:embed="rId3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Rectangle 3"/>
          <p:cNvGraphicFramePr/>
          <p:nvPr/>
        </p:nvGraphicFramePr>
        <p:xfrm>
          <a:off x="0" y="692280"/>
          <a:ext cx="9196560" cy="58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965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77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3" descr="ФлагиРФиКр"/>
            <p:cNvPicPr/>
            <p:nvPr/>
          </p:nvPicPr>
          <p:blipFill>
            <a:blip r:embed="rId3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81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3" name=""/>
          <p:cNvGraphicFramePr/>
          <p:nvPr/>
        </p:nvGraphicFramePr>
        <p:xfrm>
          <a:off x="250920" y="1773360"/>
          <a:ext cx="8611920" cy="4176720"/>
        </p:xfrm>
        <a:graphic>
          <a:graphicData uri="http://schemas.openxmlformats.org/drawingml/2006/table">
            <a:tbl>
              <a:tblPr/>
              <a:tblGrid>
                <a:gridCol w="1512720"/>
                <a:gridCol w="976320"/>
                <a:gridCol w="1419120"/>
                <a:gridCol w="1486080"/>
                <a:gridCol w="1254240"/>
                <a:gridCol w="112860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ерри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ичество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некачественно проверен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 некачественно проверен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изменилась сумма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не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выси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низи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емрюк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авл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абин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машевск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Итого по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ерепроверенным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работа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4"/>
          <p:cNvSpPr/>
          <p:nvPr/>
        </p:nvSpPr>
        <p:spPr>
          <a:xfrm>
            <a:off x="1547640" y="14292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зультаты перепроверки экзаменационных работ по алгебре в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9" name="Rectangle 3"/>
          <p:cNvGraphicFramePr/>
          <p:nvPr/>
        </p:nvGraphicFramePr>
        <p:xfrm>
          <a:off x="0" y="798480"/>
          <a:ext cx="9144000" cy="548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98480"/>
                    <a:ext cx="9144000" cy="54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Rectangle 7"/>
          <p:cNvSpPr/>
          <p:nvPr/>
        </p:nvSpPr>
        <p:spPr>
          <a:xfrm>
            <a:off x="1547640" y="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2009 году ЕГЭ проводился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13 предметам учебного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4520" y="1181880"/>
            <a:ext cx="8345160" cy="507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ий язы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им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олог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рия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ствозн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йский язы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мецкий язы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нцузский язы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 и информационно-коммуникационные технолог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Rectangle 3"/>
          <p:cNvGraphicFramePr/>
          <p:nvPr/>
        </p:nvGraphicFramePr>
        <p:xfrm>
          <a:off x="-523800" y="907920"/>
          <a:ext cx="9667800" cy="54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23800" y="907920"/>
                    <a:ext cx="96678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3" descr="ФлагиРФиКр"/>
            <p:cNvPicPr/>
            <p:nvPr/>
          </p:nvPicPr>
          <p:blipFill>
            <a:blip r:embed="rId3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99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01" name=""/>
          <p:cNvGraphicFramePr/>
          <p:nvPr/>
        </p:nvGraphicFramePr>
        <p:xfrm>
          <a:off x="250920" y="-531720"/>
          <a:ext cx="8497800" cy="6003720"/>
        </p:xfrm>
        <a:graphic>
          <a:graphicData uri="http://schemas.openxmlformats.org/drawingml/2006/table">
            <a:tbl>
              <a:tblPr/>
              <a:tblGrid>
                <a:gridCol w="216000"/>
                <a:gridCol w="713160"/>
                <a:gridCol w="2259360"/>
                <a:gridCol w="642240"/>
                <a:gridCol w="865440"/>
                <a:gridCol w="182160"/>
                <a:gridCol w="852840"/>
                <a:gridCol w="352800"/>
                <a:gridCol w="1044360"/>
                <a:gridCol w="1369440"/>
              </a:tblGrid>
              <a:tr h="57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007-2008 уч.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008-2009 уч.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% от общ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оли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% от общ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оли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Ф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4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3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3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9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Б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3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4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3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Ге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5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Обществ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История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6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577"/>
          <p:cNvSpPr/>
          <p:nvPr/>
        </p:nvSpPr>
        <p:spPr>
          <a:xfrm>
            <a:off x="1547640" y="0"/>
            <a:ext cx="759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0"/>
            <a:ext cx="74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татистика  выбора предметов выпускниками 9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ля сдачи экзаменов по текстам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07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4660920" y="184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8360" y="1125360"/>
          <a:ext cx="8207280" cy="5345280"/>
        </p:xfrm>
        <a:graphic>
          <a:graphicData uri="http://schemas.openxmlformats.org/drawingml/2006/table">
            <a:tbl>
              <a:tblPr/>
              <a:tblGrid>
                <a:gridCol w="438120"/>
                <a:gridCol w="1720800"/>
                <a:gridCol w="1241280"/>
                <a:gridCol w="784440"/>
                <a:gridCol w="749160"/>
                <a:gridCol w="819360"/>
                <a:gridCol w="942840"/>
                <a:gridCol w="692280"/>
                <a:gridCol w="819000"/>
              </a:tblGrid>
              <a:tr h="503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Наименование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оличество участников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(че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оличество апелляций (е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оступи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довлетвор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овлекших изменение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о процед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о результ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о процед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о результ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величение бал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меньшение бал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3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Алгеб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Геоме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История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178280" y="189000"/>
            <a:ext cx="79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личество апелляций по результатам государственной (итог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тестации выпускников IX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тмеча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значительное увеличение числа участников ГИА-9 (новая форма) на добровольной осно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 доверие всех категорий пользователей к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е результатов ГИА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Поступление в учреждения СПО без вступительных испыт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Формирование профи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Анализ эффективности учебно-методического обеспечения и организации учебного процесса по предмету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15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Rectangle 7"/>
          <p:cNvSpPr/>
          <p:nvPr/>
        </p:nvSpPr>
        <p:spPr>
          <a:xfrm>
            <a:off x="1584360" y="0"/>
            <a:ext cx="755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собенности организации и проведения государственной (итоговой) аттестации обучающихся, освоивших образовательные программы основного общего образования в Краснодар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МОУ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ить жизнеустройство выпускников 2009, не получивших аттеста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ффективно использовать анализ результатов Г(И)А в преподавании учебных предметов в ОУ и в совершенствовании внутришкольного контроля качества препода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ить  адресную работу по Г(И)А со слабоуспевающими, выпускниками вечерних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ить получение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семи выпускниками 2010 аттес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21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3" descr="ФлагиРФиКр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ЕГЭ приняли участие 32 тысяч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32320" y="40784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5327640" y="981000"/>
            <a:ext cx="3602160" cy="284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 тыс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ыпускников из 890 общеобразовательных учреждений кр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,5 тыс. выпускников прошлых лет и выпускников НПО и С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5327640" y="4473720"/>
            <a:ext cx="3600360" cy="12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,5 ты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выпуск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0"/>
          <p:cNvSpPr/>
          <p:nvPr/>
        </p:nvSpPr>
        <p:spPr>
          <a:xfrm>
            <a:off x="2124000" y="1015920"/>
            <a:ext cx="3097440" cy="2521080"/>
          </a:xfrm>
          <a:prstGeom prst="rightArrow">
            <a:avLst>
              <a:gd name="adj1" fmla="val 73852"/>
              <a:gd name="adj2" fmla="val 328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ериод государственной (итоговой) аттес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2124000" y="3933720"/>
            <a:ext cx="3097440" cy="2484720"/>
          </a:xfrm>
          <a:prstGeom prst="rightArrow">
            <a:avLst>
              <a:gd name="adj1" fmla="val 73852"/>
              <a:gd name="adj2" fmla="val 3334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дополнительные сро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3" descr="85"/>
          <p:cNvPicPr/>
          <p:nvPr/>
        </p:nvPicPr>
        <p:blipFill>
          <a:blip r:embed="rId1"/>
          <a:stretch/>
        </p:blipFill>
        <p:spPr>
          <a:xfrm>
            <a:off x="142920" y="1015920"/>
            <a:ext cx="1835280" cy="121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5" descr="full"/>
          <p:cNvPicPr/>
          <p:nvPr/>
        </p:nvPicPr>
        <p:blipFill>
          <a:blip r:embed="rId2"/>
          <a:srcRect l="0" t="0" r="0" b="7108"/>
          <a:stretch/>
        </p:blipFill>
        <p:spPr>
          <a:xfrm>
            <a:off x="142920" y="2347920"/>
            <a:ext cx="1836720" cy="124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7" descr="0961-01"/>
          <p:cNvPicPr/>
          <p:nvPr/>
        </p:nvPicPr>
        <p:blipFill>
          <a:blip r:embed="rId3"/>
          <a:stretch/>
        </p:blipFill>
        <p:spPr>
          <a:xfrm>
            <a:off x="142920" y="3716280"/>
            <a:ext cx="183672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9" descr="%D0%B5%D0%B3%D1%8D"/>
          <p:cNvPicPr/>
          <p:nvPr/>
        </p:nvPicPr>
        <p:blipFill>
          <a:blip r:embed="rId4"/>
          <a:stretch/>
        </p:blipFill>
        <p:spPr>
          <a:xfrm>
            <a:off x="142920" y="5019840"/>
            <a:ext cx="1836720" cy="13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цент выпускников, не преодолевших порог успешности, по результатам ЕГЭ 2008 и 2009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12"/>
          <p:cNvGraphicFramePr/>
          <p:nvPr/>
        </p:nvGraphicFramePr>
        <p:xfrm>
          <a:off x="176040" y="987480"/>
          <a:ext cx="8771040" cy="57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987480"/>
                    <a:ext cx="8771040" cy="57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цент выпускников, не преодолевших порог успешности,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 результатам ЕГЭ 2009 года в сравнении с Росси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2560" y="955800"/>
          <a:ext cx="903888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955800"/>
                    <a:ext cx="903888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Территории, получившие лучшие и худшие баллы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 математике в 2009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125280" y="996840"/>
          <a:ext cx="889344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996840"/>
                    <a:ext cx="889344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Line 6"/>
          <p:cNvSpPr/>
          <p:nvPr/>
        </p:nvSpPr>
        <p:spPr>
          <a:xfrm>
            <a:off x="633240" y="2924280"/>
            <a:ext cx="822960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84360" y="2997360"/>
            <a:ext cx="6406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краевой балл -  4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"/>
          <p:cNvSpPr/>
          <p:nvPr/>
        </p:nvSpPr>
        <p:spPr>
          <a:xfrm>
            <a:off x="5003640" y="1268280"/>
            <a:ext cx="157320" cy="475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5076720" y="1268280"/>
            <a:ext cx="157320" cy="475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Территории, получившие лучшие и худшие баллы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 русскому языку в 2009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79280" y="1268280"/>
          <a:ext cx="8661600" cy="53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616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Line 10"/>
          <p:cNvSpPr/>
          <p:nvPr/>
        </p:nvSpPr>
        <p:spPr>
          <a:xfrm>
            <a:off x="684360" y="3284640"/>
            <a:ext cx="822960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40000" y="3321000"/>
            <a:ext cx="5975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краевой балл -  57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2"/>
          <p:cNvSpPr/>
          <p:nvPr/>
        </p:nvSpPr>
        <p:spPr>
          <a:xfrm>
            <a:off x="4788000" y="1268280"/>
            <a:ext cx="156960" cy="475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3"/>
          <p:cNvSpPr/>
          <p:nvPr/>
        </p:nvSpPr>
        <p:spPr>
          <a:xfrm>
            <a:off x="4716360" y="1268280"/>
            <a:ext cx="157320" cy="475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Территории, показавшие существенные изменения средних баллов за два года (2008 г., 2009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403280" y="180828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лендж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гл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аш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120320" y="87228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математ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0" y="591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орско-Ахта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982160" y="4761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пшеро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1191240" y="51926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е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1835280" y="4041720"/>
            <a:ext cx="863640" cy="611280"/>
          </a:xfrm>
          <a:prstGeom prst="downArrow">
            <a:avLst>
              <a:gd name="adj1" fmla="val 75306"/>
              <a:gd name="adj2" fmla="val 3466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3"/>
          <p:cNvSpPr/>
          <p:nvPr/>
        </p:nvSpPr>
        <p:spPr>
          <a:xfrm>
            <a:off x="1008000" y="4041720"/>
            <a:ext cx="935280" cy="1008000"/>
          </a:xfrm>
          <a:prstGeom prst="downArrow">
            <a:avLst>
              <a:gd name="adj1" fmla="val 75306"/>
              <a:gd name="adj2" fmla="val 3735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4"/>
          <p:cNvSpPr/>
          <p:nvPr/>
        </p:nvSpPr>
        <p:spPr>
          <a:xfrm>
            <a:off x="108000" y="4041720"/>
            <a:ext cx="1008000" cy="1800360"/>
          </a:xfrm>
          <a:prstGeom prst="downArrow">
            <a:avLst>
              <a:gd name="adj1" fmla="val 75306"/>
              <a:gd name="adj2" fmla="val 61909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324000" y="4041720"/>
            <a:ext cx="84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0" y="907920"/>
            <a:ext cx="1476360" cy="3132360"/>
          </a:xfrm>
          <a:prstGeom prst="upArrow">
            <a:avLst>
              <a:gd name="adj1" fmla="val 69935"/>
              <a:gd name="adj2" fmla="val 547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7"/>
          <p:cNvSpPr/>
          <p:nvPr/>
        </p:nvSpPr>
        <p:spPr>
          <a:xfrm>
            <a:off x="4140360" y="2492280"/>
            <a:ext cx="1476360" cy="1548000"/>
          </a:xfrm>
          <a:prstGeom prst="upArrow">
            <a:avLst>
              <a:gd name="adj1" fmla="val 69935"/>
              <a:gd name="adj2" fmla="val 2704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5797080" y="9802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русскому язык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5580000" y="2528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лендж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гл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арме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733896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шеронс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ь-Лаб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1"/>
          <p:cNvSpPr/>
          <p:nvPr/>
        </p:nvSpPr>
        <p:spPr>
          <a:xfrm>
            <a:off x="4248000" y="4041720"/>
            <a:ext cx="1008360" cy="2016360"/>
          </a:xfrm>
          <a:prstGeom prst="downArrow">
            <a:avLst>
              <a:gd name="adj1" fmla="val 75306"/>
              <a:gd name="adj2" fmla="val 6931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2"/>
          <p:cNvSpPr/>
          <p:nvPr/>
        </p:nvSpPr>
        <p:spPr>
          <a:xfrm>
            <a:off x="5003640" y="4041720"/>
            <a:ext cx="1008360" cy="1835280"/>
          </a:xfrm>
          <a:prstGeom prst="downArrow">
            <a:avLst>
              <a:gd name="adj1" fmla="val 75306"/>
              <a:gd name="adj2" fmla="val 6308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3"/>
          <p:cNvSpPr/>
          <p:nvPr/>
        </p:nvSpPr>
        <p:spPr>
          <a:xfrm>
            <a:off x="5724360" y="4041720"/>
            <a:ext cx="1008360" cy="1619280"/>
          </a:xfrm>
          <a:prstGeom prst="downArrow">
            <a:avLst>
              <a:gd name="adj1" fmla="val 75306"/>
              <a:gd name="adj2" fmla="val 5566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4"/>
          <p:cNvSpPr/>
          <p:nvPr/>
        </p:nvSpPr>
        <p:spPr>
          <a:xfrm>
            <a:off x="6480000" y="4041720"/>
            <a:ext cx="1008360" cy="1258920"/>
          </a:xfrm>
          <a:prstGeom prst="downArrow">
            <a:avLst>
              <a:gd name="adj1" fmla="val 75306"/>
              <a:gd name="adj2" fmla="val 43275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5"/>
          <p:cNvSpPr/>
          <p:nvPr/>
        </p:nvSpPr>
        <p:spPr>
          <a:xfrm>
            <a:off x="7236000" y="4041720"/>
            <a:ext cx="1008000" cy="971640"/>
          </a:xfrm>
          <a:prstGeom prst="downArrow">
            <a:avLst>
              <a:gd name="adj1" fmla="val 75306"/>
              <a:gd name="adj2" fmla="val 3466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6"/>
          <p:cNvSpPr/>
          <p:nvPr/>
        </p:nvSpPr>
        <p:spPr>
          <a:xfrm>
            <a:off x="3891960" y="634536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юхове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4937040" y="605808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орско-Ахта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5765040" y="57340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е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9"/>
          <p:cNvSpPr/>
          <p:nvPr/>
        </p:nvSpPr>
        <p:spPr>
          <a:xfrm>
            <a:off x="6555240" y="54450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хоре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цент выпускников в территориях,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не получивших аттест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26"/>
          <p:cNvGraphicFramePr/>
          <p:nvPr/>
        </p:nvGraphicFramePr>
        <p:xfrm>
          <a:off x="-469800" y="1271520"/>
          <a:ext cx="995688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9800" y="1271520"/>
                    <a:ext cx="995688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28"/>
          <p:cNvSpPr/>
          <p:nvPr/>
        </p:nvSpPr>
        <p:spPr>
          <a:xfrm>
            <a:off x="1476360" y="3789360"/>
            <a:ext cx="67676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1403280" y="3238560"/>
            <a:ext cx="19447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крае не получ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ттестаты -  4,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0"/>
          <p:cNvSpPr/>
          <p:nvPr/>
        </p:nvSpPr>
        <p:spPr>
          <a:xfrm>
            <a:off x="4572000" y="1268280"/>
            <a:ext cx="157320" cy="475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1"/>
          <p:cNvSpPr/>
          <p:nvPr/>
        </p:nvSpPr>
        <p:spPr>
          <a:xfrm>
            <a:off x="4645080" y="1268280"/>
            <a:ext cx="156960" cy="475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03:30Z</dcterms:created>
  <dc:creator>Назаревский</dc:creator>
  <dc:description/>
  <dc:language>en-US</dc:language>
  <cp:lastModifiedBy>Alex</cp:lastModifiedBy>
  <dcterms:modified xsi:type="dcterms:W3CDTF">2009-11-30T07:17:14Z</dcterms:modified>
  <cp:revision>239</cp:revision>
  <dc:subject/>
  <dc:title>Слайд 1</dc:title>
</cp:coreProperties>
</file>