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DCB-B2CB-4BD8-8FD0-ADDDEE61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8D7-7A39-4217-8564-69537C5C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6B1-FA21-4988-8461-DAD5D1DF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023-AF19-4C92-9964-EC01374E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6B7-79C0-43A1-A6ED-AA3E036D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277-8802-4562-8C87-E1E2DB26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4D3-3593-4E32-B327-7D0BB809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A22-5044-47C7-8866-77564FC9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E09-2FB2-46A5-ABEB-5CD469D4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3C1-2044-4B63-9A2A-A77C57F9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45D-BCCA-46D3-88F2-0D43501E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D2E-809D-49C8-BBBA-F18FD1C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C8A8-2773-4AC3-BFFD-7100E8DF5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as.kubannet.ru/" TargetMode="External"/><Relationship Id="rId2" Type="http://schemas.openxmlformats.org/officeDocument/2006/relationships/hyperlink" Target="http://www.gas.kubannet.ru/forum/" TargetMode="External"/><Relationship Id="rId3" Type="http://schemas.openxmlformats.org/officeDocument/2006/relationships/hyperlink" Target="mailto:main@gas.kubannet.ru" TargetMode="External"/><Relationship Id="rId4" Type="http://schemas.openxmlformats.org/officeDocument/2006/relationships/hyperlink" Target="mailto:main@gas.kubannet.ru" TargetMode="External"/><Relationship Id="rId5" Type="http://schemas.openxmlformats.org/officeDocument/2006/relationships/hyperlink" Target="mailto:main@gas.kubannet.ru" TargetMode="External"/><Relationship Id="rId6" Type="http://schemas.openxmlformats.org/officeDocument/2006/relationships/hyperlink" Target="mailto:main@gas.kubannet.ru" TargetMode="External"/><Relationship Id="rId7" Type="http://schemas.openxmlformats.org/officeDocument/2006/relationships/hyperlink" Target="mailto:main@gas.kubannet.ru" TargetMode="External"/><Relationship Id="rId8" Type="http://schemas.openxmlformats.org/officeDocument/2006/relationships/hyperlink" Target="mailto:main@gas.kubannet.ru" TargetMode="External"/><Relationship Id="rId9" Type="http://schemas.openxmlformats.org/officeDocument/2006/relationships/hyperlink" Target="mailto:main@gas.kubannet.ru" TargetMode="External"/><Relationship Id="rId10" Type="http://schemas.openxmlformats.org/officeDocument/2006/relationships/hyperlink" Target="mailto:finege@des.kubannet.ru" TargetMode="External"/><Relationship Id="rId11" Type="http://schemas.openxmlformats.org/officeDocument/2006/relationships/hyperlink" Target="mailto:finege@des.kubannet.ru" TargetMode="External"/><Relationship Id="rId12" Type="http://schemas.openxmlformats.org/officeDocument/2006/relationships/hyperlink" Target="mailto:finege@des.kubannet.ru" TargetMode="External"/><Relationship Id="rId13" Type="http://schemas.openxmlformats.org/officeDocument/2006/relationships/hyperlink" Target="mailto:finege@des.kubannet.ru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6760" y="214200"/>
            <a:ext cx="82868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ЫЙ РЕСУР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УДАРСТВЕННОГО УЧРЕЖДЕНИЯ КРАСНОДАРСКОГО КРАЯ ЦЕНТРА ОЦЕНКИ КАЧЕСТВА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ГУ КК ЦОК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Краснодар, ул. Стасова,1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ый сайт:  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as.kubannet.ru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: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осударственная итоговая аттестация/ ЕГЭ / Нормативные документы/ Федеральные нормативные и распорядительные документы; Региональные нормативные и распорядительные докумен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закрытом доступе:   Логин  ------------------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оль  ------------------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ш форум: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gas.kubannet.ru/forum/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дреса электронной почт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ain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@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ga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kuban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(прием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fine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@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de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kubannet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(отдел обеспечения ЕГЭ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natoly11@des.kubannet.ru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(РЦО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9:14:31Z</dcterms:created>
  <dc:creator>iac-u6</dc:creator>
  <dc:description/>
  <dc:language>en-US</dc:language>
  <cp:lastModifiedBy>Admin</cp:lastModifiedBy>
  <dcterms:modified xsi:type="dcterms:W3CDTF">2009-12-01T10:47:48Z</dcterms:modified>
  <cp:revision>3</cp:revision>
  <dc:subject/>
  <dc:title>Слайд 1</dc:title>
</cp:coreProperties>
</file>